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290B-A0FF-43D3-A0B3-C0023D6F7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29C7-5A41-4FB9-8A76-131A5F20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8222-C062-4BBC-9C89-B65414EF5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2B26-AA56-4E97-8424-48455590A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63EF-BDA9-4EC6-82EF-AC09D260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F18F-10B5-4622-ABA8-0E833DE1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B2A9-1920-4738-BFC1-42F8E681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F6AF-B5A3-432D-847D-E4153C7A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9A15-4F1C-41E9-AAC6-18C07095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144B-9F97-4A4A-8FB1-72802AE4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3C23-8067-4094-8C48-664673EE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DD1C-4430-48C9-BCFA-1D6C1787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1A6C-8544-4D93-B710-ADE8ADF8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763B-A156-49CA-996F-3EE2949D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27A5-8694-4C32-8C92-78FA2C09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BA50-8A39-4FC1-B464-F5E7E8C3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8BF4-5E95-4206-BFBD-68128F780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8BB1-20D3-448F-BF23-51B33A60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52C8-B82E-42EA-9C40-F97F0F0A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8068-2DE3-4693-86AD-A0CC885F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562B-15D3-4BEB-8585-0282DD46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2F17-A195-4004-B938-3D46DF64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C5C5-4A44-4A90-9ED5-9A06FF41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764F-B4F4-47E2-9A7D-988E10EC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28BC-24DE-45BC-B69D-DDD0B07D3C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7FD7-7066-41AA-B397-F9B99B57BC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Give Us A King -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United Kingdom, Part 2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886200"/>
            <a:ext cx="7010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Quarter 5, Lesson 7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2 Samuel 21:15-22; 23:8-3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1 Chron. 11:10-47; 20:4-8; 22-29:22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ges 101-106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vid Plans For The Temple </a:t>
            </a:r>
            <a:br>
              <a:rPr sz="4400"/>
            </a:b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1 Chron. 22:17-19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avid exhorted the princes of Isra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o help Solomon build the templ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o remember that God was with them and had given them res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David Organizes The People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1 Chron. 23:2-27:34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Levi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ll men 30 and over counte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24,000 to work around the templ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6,000 to be judges and official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4,000 to be gatekeepers or guard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4,000 to lead the people in singing praise to Go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ivided them into their separate famili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ave each specific responsibiliti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8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8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8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8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8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8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8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8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8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8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8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8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8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8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8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David Organizes The People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1 Chron. 23:2-27:34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iests were organized by 24 famil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rmy divided into 12 divisions of 24,000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tation system used for the temp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member God had warned the people that they would serve the king – now they are doing it!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David Assembles Israel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1 Chron. 28:1-29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e told them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ow God chose him and Solom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at Solomon will build the templ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o follow God’s commandments to keep the land and to pass it along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e publicly encouraged Solom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erve God faithfully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Build the temple of God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Be strong and do it!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David Assembles Israel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1 Chron. 28:1-29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avid gave Solomon the blueprints (pattern) for the temp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iven by the Spirit of Go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e introduced Solomon to the assemb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 people are before you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y will be entirely at your comman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Jehovah is with you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David Assembles Israel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1 Chron. 28:1-29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avid gave his personal gold and sil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e challenged the people to giv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people gave willingly and abundantly; David rejoic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avid prayed with the peop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raised Go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anked him for the gift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quested God to be with them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de great sacrifices that da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David’s Mighty Men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2 Sam. 21:15-22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bishai rescued David from a gia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avid was exhauste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is men would not let go to battle agai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hilistine giants killed at Gob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ibbecai slew Saph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lhanan slew brother of Goliath who carried a sword like a weaver’s beam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Jonathan slew a giant who had twelve fingers and twelve to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David’s Mighty Men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2 Sam. 23:8-12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top three in rank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66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Jashobeam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 slew 300 (or 800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66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Eleazar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 smote Philistines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(his hand so tired he could not remove his hand from the sword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66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Shammah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 (and Eleazar) defended a field from the Philistines after everyone else had fled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David’s Mighty Men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2 Sam. 23:13-17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avid requested Bethlehem wat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t was only a casual reques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hilistines occupied Bethlehem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ree of his military leaders broke through the Philistines’ army to get the wate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avid did not drink the wat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oured it onto the ground unto the Lor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 water was too valuable to drink because his men risk their lives for i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David’s Mighty Men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2 Sam. 23:18-23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bisha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Joab and Abner’s brothe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Killed 300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ighty but not ranked over the first thre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enaiah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ead of David’s personal bodyguard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lew two sons of Ariel of Moab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Killed a lion during the snow seas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Killed a tall Egyptian with his own spear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David’s Mighty Men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2 Sam. 23:24-39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otal of 37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n additional 16 added in 1 Chron. 11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ecff"/>
                </a:solidFill>
                <a:uFillTx/>
                <a:latin typeface="Tahoma"/>
              </a:rPr>
              <a:t>Thirty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must have been special to David or held special positions in his arm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vid Plans For The Temple </a:t>
            </a:r>
            <a:br>
              <a:rPr sz="4400"/>
            </a:b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1 Chron. 22:2-5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avid made great preparations for Solom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athered the necessary material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asons to hew ston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ron for nail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rass in abundanc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edar trees from Tyre and Sid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arge amounts of gold and silve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vid Plans For The Temple </a:t>
            </a:r>
            <a:br>
              <a:rPr sz="4400"/>
            </a:b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1 Chron. 22:6-12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 selected Solomon to be the next ruler and the one to build the temp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ason why David could not build i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ason why Solomon would built i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olomon young and inexperience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11</a:t>
            </a:r>
            <a:r>
              <a:rPr b="0" lang="en-US" sz="2800" spc="-1" strike="noStrike" baseline="30000">
                <a:solidFill>
                  <a:srgbClr val="ccec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of 17 so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od promised peace and quietnes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avid: May wisdom and understanding be with Solomon to keep the law of Go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vid Plans For The Temple </a:t>
            </a:r>
            <a:br>
              <a:rPr sz="4400"/>
            </a:b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1 Chron. 22:13-16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olomon given the secret to success in v.13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Walk in God’s ways and He will bless you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avid’s part was o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killed workers assemble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uilding materials were ready in abundanc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19:23:32Z</dcterms:created>
  <dc:creator>Don Vines</dc:creator>
  <dc:description/>
  <dc:language>en-US</dc:language>
  <cp:lastModifiedBy>Frank D Vines</cp:lastModifiedBy>
  <dcterms:modified xsi:type="dcterms:W3CDTF">2005-07-27T23:29:28Z</dcterms:modified>
  <cp:revision>14</cp:revision>
  <dc:subject/>
  <dc:title>Give Us A King - The United Kingdom, Part 2</dc:title>
</cp:coreProperties>
</file>